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6834-4CAD-4DBC-8E3E-8AEBFEA90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4057560"/>
            <a:ext cx="8686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1A5ED-A32B-452F-8BCA-E9CFBD958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05756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405756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4A5C-CDB0-43C7-86A2-B34BD01A4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5224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5224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405756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405756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405756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72A7-19F7-4591-8EEF-D1AAD714A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DD9-2297-4710-B237-7B9D9E937E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719-DDB4-4CA6-8AC9-6CC6FE6640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B42-2C6B-4261-B0CA-2CD8211E68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FF0-9428-4236-81F8-BF0911476D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8A0-E133-42DF-98A7-5CDBBCCEBC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75960"/>
            <a:ext cx="78487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75C-7FE3-459D-ADC8-8FAE87F51A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405756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9BC-1DFE-4782-AD6D-602F0C5B07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96B3-9B60-4921-9CE6-72D01E106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0" y="405756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C33-B8D7-45CB-8E38-D9D0A112E8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4057560"/>
            <a:ext cx="8686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5FB-2E7B-430C-8846-3EBF6C7AA0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4057560"/>
            <a:ext cx="8686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B13-C85B-4544-BAD7-785A414E68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405756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0" y="405756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4429-1904-45CF-88D3-DCEB551543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840" y="145224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720" y="145224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405756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840" y="405756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720" y="4057560"/>
            <a:ext cx="279684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8C6B-45FC-4E65-81D8-5F3DA1EAF5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04AF2-F728-40DD-8FDD-6F3C2813F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0B528-C652-4F6D-A258-C9067C74E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A4C98-28A7-46C6-A7B4-D81BD584B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75960"/>
            <a:ext cx="78487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F30BB-C63B-4DEB-8563-366BA0717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405756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081BD-99FE-4C12-A59D-8A22CD9B5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405756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F9DB2-BCA8-4F5C-90A4-5807146E9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52240"/>
            <a:ext cx="42390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4057560"/>
            <a:ext cx="8686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B77F-7D09-490B-A600-9BE95B021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90000"/>
              <a:buFont typeface="VNI-Helv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NI-Helv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NI-Helv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NI-Helv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28600" y="6552720"/>
            <a:ext cx="7848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NI-Helve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NI-Helve"/>
                <a:ea typeface="新細明體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VNI-Helve"/>
                <a:ea typeface="新細明體"/>
              </a:rPr>
              <a:t>Khoa Coâng Ngheä Thoâng Tin – Ñaïi Hoïc Baùch Khoa Tp.H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1379520"/>
            <a:ext cx="86868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381880" y="6595560"/>
            <a:ext cx="609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-1.</a:t>
            </a:r>
            <a:fld id="{26D1D750-D99A-408F-B58E-71D257C207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548400"/>
            <a:ext cx="86868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268200"/>
            <a:ext cx="809640" cy="8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3657600"/>
            <a:ext cx="77724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3"/>
          </p:nvPr>
        </p:nvSpPr>
        <p:spPr>
          <a:xfrm>
            <a:off x="8381880" y="6595560"/>
            <a:ext cx="6098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-1.</a:t>
            </a:r>
            <a:fld id="{E12D8D38-9C0E-4895-AA67-B0732C183E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90000"/>
              <a:buFont typeface="VNI-Helve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NI-Helv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NI-Helv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NI-Helv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0520" y="2130120"/>
            <a:ext cx="81756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istributed Syst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24200" y="4121280"/>
            <a:ext cx="35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de Latin"/>
                <a:ea typeface="標楷體"/>
              </a:rPr>
              <a:t>THOAI 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ed System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Minicomputer model 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Each user has local machine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Local processing but can fetch remote data (files, databases)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Workstation model 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Processing can also migrate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Client-server Model 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User has local workstation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Powerful workstations serve as servers (file, print, DB servers)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Processor pool model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Terminals are Xterms or diskless terminals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Pool of backend processors handle processing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NI-Helv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processor Oper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93880" y="1685520"/>
            <a:ext cx="72295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An OS acts as a resource manager or an arbitrator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Manages CPU, I/O devices, memory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OS provides a virtual interface that is easier to use than hardware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Structure of uniprocessor operating system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Monolithic (e.g., MS-DOS, early UNIX)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90000"/>
              <a:buFont typeface="VNI-Helv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One large kernel that handles everything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Layered design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90000"/>
              <a:buFont typeface="VNI-Helv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Functionality is decomposed into N layers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90000"/>
              <a:buFont typeface="VNI-Helve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Each layer uses services of layer N-1 and implements  new service(s)  for layer N+1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processor Oper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9883" t="43959" r="18814" b="38823"/>
          <a:stretch/>
        </p:blipFill>
        <p:spPr>
          <a:xfrm>
            <a:off x="228600" y="2828880"/>
            <a:ext cx="8610480" cy="3435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5960" y="1552680"/>
            <a:ext cx="833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kernel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level servers implement additional functiona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ed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Manages resources in a distributed system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Seamlessly and transparently to the user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Looks to the user like a centralized O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But operates on multiple independent CPUs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Provides transparency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Location, migration, concurrency, replication,…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Presents users with a virtual uniprocessor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Distributed 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6360" y="1614600"/>
          <a:ext cx="8559360" cy="4689000"/>
        </p:xfrm>
        <a:graphic>
          <a:graphicData uri="http://schemas.openxmlformats.org/drawingml/2006/table">
            <a:tbl>
              <a:tblPr/>
              <a:tblGrid>
                <a:gridCol w="1550160"/>
                <a:gridCol w="4869360"/>
                <a:gridCol w="2139840"/>
              </a:tblGrid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Main 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Tightly-coupled operating system for multi-processors and homogeneous multicompu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Hide and manage hardware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Loosely-coupled operating system for heterogeneous multicomputers (LAN and W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Offer local services to remote cl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Middlew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Additional layer atop of NOS implementing general-purpose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Provide distribution transpar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rocessor Operating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Like a uniprocessor operating system 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Manages multiple CPUs transparently to the user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Each processor has its own hardware cache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Maintain consistency of cached data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computer Operating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0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9931" t="44865" r="27580" b="37916"/>
          <a:stretch/>
        </p:blipFill>
        <p:spPr>
          <a:xfrm>
            <a:off x="623880" y="1965240"/>
            <a:ext cx="7572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perating System (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9931" t="43656" r="27580" b="38972"/>
          <a:stretch/>
        </p:blipFill>
        <p:spPr>
          <a:xfrm>
            <a:off x="741240" y="1519200"/>
            <a:ext cx="75726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perating System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Employs a client-server model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Minimal OS kernel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Additional functionality as user processes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317520" y="2932200"/>
            <a:ext cx="856764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ware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General structure of a distributed system as middleware.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9077" t="42146" r="28006" b="36254"/>
          <a:stretch/>
        </p:blipFill>
        <p:spPr>
          <a:xfrm>
            <a:off x="1433520" y="1998720"/>
            <a:ext cx="5934240" cy="42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1: 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Distributed System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Hardware &amp; software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Distributed O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 betwee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3160" y="1461960"/>
          <a:ext cx="8748720" cy="4757760"/>
        </p:xfrm>
        <a:graphic>
          <a:graphicData uri="http://schemas.openxmlformats.org/drawingml/2006/table">
            <a:tbl>
              <a:tblPr/>
              <a:tblGrid>
                <a:gridCol w="2710080"/>
                <a:gridCol w="1373040"/>
                <a:gridCol w="1543320"/>
                <a:gridCol w="1425240"/>
                <a:gridCol w="1697040"/>
              </a:tblGrid>
              <a:tr h="386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Distributed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Network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Middleware-based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Multi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Multi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Degree of transpar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Same OS on all n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Number of copies of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Basis for commun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Shared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Mess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Model specif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Resource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Global, distribu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Per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Per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Sca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Modera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V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Open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907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 of a Distribut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6760" y="1522440"/>
            <a:ext cx="858816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A distributed system: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Multiple connected CPUs working together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A collection of independent computers that appears to its users as a single coherent system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Examples: parallel machines, networked machine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and 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Communication and resource sharing possible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Economics – price-performance ratio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Reliability, scalability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Potential for incremental growth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Distribution-aware PLs, OSs and applications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Network connectivity essential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NI-Helve"/>
              </a:rPr>
              <a:t>Security and privacy</a:t>
            </a:r>
            <a:endParaRPr b="0" lang="en-US" sz="20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264600"/>
            <a:ext cx="80773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arency in a Distribut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5791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orms of transparency in a distributed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68280" y="1542960"/>
          <a:ext cx="8505720" cy="4028760"/>
        </p:xfrm>
        <a:graphic>
          <a:graphicData uri="http://schemas.openxmlformats.org/drawingml/2006/table">
            <a:tbl>
              <a:tblPr/>
              <a:tblGrid>
                <a:gridCol w="2328840"/>
                <a:gridCol w="61768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Transpar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Hide differences in data representation and how a resource is acce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Hide where a resource is loc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Mig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Hide that a resource may move to another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Re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Hide that a resource may be moved to another location while in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Re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Hide that a resource may be shared by several competitive us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Concurr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Hide that a resource may be shared by several competitive us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Hide the failure and recovery of a re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Persist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Hide whether a (software) resource is in memory or on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abilit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257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scalability limi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90720" y="1758960"/>
          <a:ext cx="7638840" cy="3238560"/>
        </p:xfrm>
        <a:graphic>
          <a:graphicData uri="http://schemas.openxmlformats.org/drawingml/2006/table">
            <a:tbl>
              <a:tblPr/>
              <a:tblGrid>
                <a:gridCol w="2855880"/>
                <a:gridCol w="4782960"/>
              </a:tblGrid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Con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Centralized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A single server for all us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Centralized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A single on-line telephone bo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Centralized algorith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標楷體"/>
                        </a:rPr>
                        <a:t>Doing routing based on complete info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28910" t="44076" r="26177" b="41315"/>
          <a:stretch/>
        </p:blipFill>
        <p:spPr>
          <a:xfrm>
            <a:off x="1158840" y="3578400"/>
            <a:ext cx="6818400" cy="2761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9080" y="75960"/>
            <a:ext cx="82915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Concepts: Multiprocessor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4522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Helve"/>
              </a:rPr>
              <a:t>Multiprocessor dimensions</a:t>
            </a:r>
            <a:endParaRPr b="0" lang="en-US" sz="28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Memory: could be shared or be private to each CPU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NI-Helv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Interconnect: could be shared (bus-based) or switched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Helve"/>
              </a:rPr>
              <a:t>A bus-based multiprocessor</a:t>
            </a:r>
            <a:r>
              <a:rPr b="0" lang="en-US" sz="3600" spc="-1" strike="noStrike">
                <a:solidFill>
                  <a:srgbClr val="000000"/>
                </a:solidFill>
                <a:latin typeface="VNI-Helv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NI-Helv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rocessor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0360" y="1452600"/>
            <a:ext cx="846468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SzPct val="70000"/>
              <a:buFont typeface="VNI-Helv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A crossbar switch     b)</a:t>
            </a:r>
            <a:r>
              <a:rPr b="0" lang="en-US" sz="2400" spc="-1" strike="noStrike">
                <a:solidFill>
                  <a:srgbClr val="3333cc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An omega switching network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895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21471" t="41259" r="18681" b="35041"/>
          <a:stretch/>
        </p:blipFill>
        <p:spPr>
          <a:xfrm>
            <a:off x="704880" y="2246400"/>
            <a:ext cx="7130880" cy="39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ogeneous Multicomputer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5960" y="1452240"/>
            <a:ext cx="829944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SzPct val="70000"/>
              <a:buFont typeface="VNI-Helv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NI-Helve"/>
              </a:rPr>
              <a:t>Grid                                           b) Hypercube</a:t>
            </a:r>
            <a:endParaRPr b="0" lang="en-US" sz="2400" spc="-1" strike="noStrike">
              <a:solidFill>
                <a:srgbClr val="000000"/>
              </a:solidFill>
              <a:latin typeface="VNI-Helve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4237" t="45657" r="24237" b="40293"/>
          <a:stretch/>
        </p:blipFill>
        <p:spPr>
          <a:xfrm>
            <a:off x="344520" y="2558880"/>
            <a:ext cx="8115120" cy="31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20:12:22Z</dcterms:created>
  <dc:creator>Steve  Armstrong</dc:creator>
  <dc:description/>
  <dc:language>en-US</dc:language>
  <cp:lastModifiedBy>Your User Name</cp:lastModifiedBy>
  <dcterms:modified xsi:type="dcterms:W3CDTF">2006-01-08T08:39:15Z</dcterms:modified>
  <cp:revision>128</cp:revision>
  <dc:subject/>
  <dc:title>Introduction</dc:title>
</cp:coreProperties>
</file>