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137B-C603-4BF1-BD27-4DF1FD88E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405756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7E0D-2E22-4D61-ADE1-A272B8F2B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C4D2-95B6-4B61-99F4-EFCF4FEFC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4B1C-8B39-4B70-8FE1-47C3B1A24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DF8-D9E9-4445-A7EC-A216A886B6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4AD-71AD-43F6-B1BE-C7F15A4086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9BC-7F56-4FB3-9399-FD2A386B54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E2D-4642-447B-829D-5A81800837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8A1-70EB-4C56-B7E2-ED0B5F6471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8487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A11-8275-42DB-B11B-C7D0220E3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291-4806-4FAE-AECA-076DC0614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9FDC-93FD-40F8-8276-EAFD211F9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C00-A28D-4C16-B347-285935FCF9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1AC-8588-44E5-8FA8-515641C246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405756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3E8-A0C4-4542-ADB9-4B03243D2A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889-12E1-4D22-93DB-23ADE680C6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719-027C-4BEE-BD49-2DA1A8A08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B655-FA23-4F83-AEFC-619D91E4E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DEF0-F63E-483B-8F66-8DB9B0DBE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05C8-E211-4D18-8498-222898321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8487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C4BD-B790-473E-BB39-6E9E2439D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5529-4A1F-44DA-B8A7-BC5BE8EB0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2E6FE-5F96-488D-9E4F-7F2825B1D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28DB-9249-4EE8-BA1E-2C232FD17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90000"/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600" y="6552720"/>
            <a:ext cx="7848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NI-Helve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NI-Helve"/>
                <a:ea typeface="新細明體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VNI-Helve"/>
                <a:ea typeface="新細明體"/>
              </a:rPr>
              <a:t>Khoa Coâng Ngheä Thoâng Tin – Ñaïi Hoïc Baùch Khoa Tp.H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1379520"/>
            <a:ext cx="86868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381880" y="6595560"/>
            <a:ext cx="609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-1.</a:t>
            </a:r>
            <a:fld id="{EA9F7766-777D-4C31-9D20-082895DD05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48400"/>
            <a:ext cx="86868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268200"/>
            <a:ext cx="80964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3"/>
          </p:nvPr>
        </p:nvSpPr>
        <p:spPr>
          <a:xfrm>
            <a:off x="8381880" y="6595560"/>
            <a:ext cx="609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-1.</a:t>
            </a:r>
            <a:fld id="{071759D8-A84B-47CD-A9A2-8E12C0B582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90000"/>
              <a:buFont typeface="VNI-Helve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NI-Helv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0520" y="2130120"/>
            <a:ext cx="817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stributed Syst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24200" y="4121280"/>
            <a:ext cx="35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de Latin"/>
                <a:ea typeface="標楷體"/>
              </a:rPr>
              <a:t>THOAI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cking versus Non-blo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ing communication (synchronous)</a:t>
            </a:r>
            <a:endParaRPr b="0" lang="en-US" sz="32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blocks until message is actually sent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 blocks until message is actually received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blocking communication (asynchronous)</a:t>
            </a:r>
            <a:endParaRPr b="0" lang="en-US" sz="32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returns immediately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does not block either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ing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452240"/>
            <a:ext cx="5938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Helve"/>
              </a:rPr>
              <a:t>Unbuffered communication</a:t>
            </a:r>
            <a:endParaRPr b="0" lang="en-US" sz="32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Server must call receive before client can call send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Helve"/>
              </a:rPr>
              <a:t>Buffered communication</a:t>
            </a:r>
            <a:endParaRPr b="0" lang="en-US" sz="32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Client send to a mailbox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Server receives from a mailbox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867280" y="1930320"/>
            <a:ext cx="2989080" cy="1247400"/>
            <a:chOff x="5867280" y="1930320"/>
            <a:chExt cx="2989080" cy="1247400"/>
          </a:xfrm>
        </p:grpSpPr>
        <p:grpSp>
          <p:nvGrpSpPr>
            <p:cNvPr id="201" name=""/>
            <p:cNvGrpSpPr/>
            <p:nvPr/>
          </p:nvGrpSpPr>
          <p:grpSpPr>
            <a:xfrm>
              <a:off x="5867280" y="1930320"/>
              <a:ext cx="765360" cy="847080"/>
              <a:chOff x="5867280" y="1930320"/>
              <a:chExt cx="765360" cy="8470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5867280" y="1980360"/>
                <a:ext cx="765360" cy="797040"/>
                <a:chOff x="5867280" y="1980360"/>
                <a:chExt cx="765360" cy="7970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867280" y="1980360"/>
                  <a:ext cx="765360" cy="797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867280" y="2511360"/>
                  <a:ext cx="76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5883120" y="1930320"/>
                <a:ext cx="65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002080" y="1930320"/>
              <a:ext cx="854280" cy="847080"/>
              <a:chOff x="8002080" y="1930320"/>
              <a:chExt cx="854280" cy="84708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8085240" y="1979640"/>
                <a:ext cx="765720" cy="797760"/>
                <a:chOff x="8085240" y="1979640"/>
                <a:chExt cx="765720" cy="797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8085240" y="1979640"/>
                  <a:ext cx="765720" cy="797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085240" y="2511000"/>
                  <a:ext cx="765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8002080" y="193032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6058440" y="3177720"/>
              <a:ext cx="258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50680" y="2778480"/>
              <a:ext cx="0" cy="39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54240" y="2778480"/>
              <a:ext cx="0" cy="39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1760" y="2379600"/>
              <a:ext cx="1772640" cy="554040"/>
            </a:xfrm>
            <a:custGeom>
              <a:avLst/>
              <a:gdLst/>
              <a:ahLst/>
              <a:rect l="l" t="t" r="r" b="b"/>
              <a:pathLst>
                <a:path w="888" h="200">
                  <a:moveTo>
                    <a:pt x="8" y="0"/>
                  </a:moveTo>
                  <a:cubicBezTo>
                    <a:pt x="4" y="56"/>
                    <a:pt x="0" y="112"/>
                    <a:pt x="8" y="144"/>
                  </a:cubicBezTo>
                  <a:cubicBezTo>
                    <a:pt x="16" y="176"/>
                    <a:pt x="16" y="184"/>
                    <a:pt x="56" y="192"/>
                  </a:cubicBezTo>
                  <a:cubicBezTo>
                    <a:pt x="96" y="200"/>
                    <a:pt x="128" y="192"/>
                    <a:pt x="248" y="192"/>
                  </a:cubicBezTo>
                  <a:cubicBezTo>
                    <a:pt x="368" y="192"/>
                    <a:pt x="672" y="200"/>
                    <a:pt x="776" y="192"/>
                  </a:cubicBezTo>
                  <a:cubicBezTo>
                    <a:pt x="880" y="184"/>
                    <a:pt x="856" y="176"/>
                    <a:pt x="872" y="144"/>
                  </a:cubicBezTo>
                  <a:cubicBezTo>
                    <a:pt x="888" y="112"/>
                    <a:pt x="880" y="56"/>
                    <a:pt x="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943600" y="4143240"/>
            <a:ext cx="2906640" cy="1136520"/>
            <a:chOff x="5943600" y="4143240"/>
            <a:chExt cx="2906640" cy="1136520"/>
          </a:xfrm>
        </p:grpSpPr>
        <p:grpSp>
          <p:nvGrpSpPr>
            <p:cNvPr id="216" name=""/>
            <p:cNvGrpSpPr/>
            <p:nvPr/>
          </p:nvGrpSpPr>
          <p:grpSpPr>
            <a:xfrm>
              <a:off x="5943600" y="4143240"/>
              <a:ext cx="741240" cy="772920"/>
              <a:chOff x="5943600" y="4143240"/>
              <a:chExt cx="741240" cy="77292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5943600" y="4191120"/>
                <a:ext cx="741240" cy="725040"/>
                <a:chOff x="5943600" y="4191120"/>
                <a:chExt cx="741240" cy="7250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943600" y="4191120"/>
                  <a:ext cx="741240" cy="725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943600" y="4673880"/>
                  <a:ext cx="74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5947560" y="4143240"/>
                <a:ext cx="65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7995960" y="4143240"/>
              <a:ext cx="854280" cy="772560"/>
              <a:chOff x="7995960" y="4143240"/>
              <a:chExt cx="854280" cy="7725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8091000" y="4190400"/>
                <a:ext cx="741240" cy="725400"/>
                <a:chOff x="8091000" y="4190400"/>
                <a:chExt cx="741240" cy="7254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8091000" y="4190400"/>
                  <a:ext cx="741240" cy="72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091000" y="4673520"/>
                  <a:ext cx="74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7995960" y="4143240"/>
                <a:ext cx="85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6129000" y="5279760"/>
              <a:ext cx="25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14760" y="4916880"/>
              <a:ext cx="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48840" y="4916880"/>
              <a:ext cx="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63440" y="4727520"/>
              <a:ext cx="370800" cy="120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32920" y="4485960"/>
              <a:ext cx="2029680" cy="674640"/>
            </a:xfrm>
            <a:custGeom>
              <a:avLst/>
              <a:gdLst/>
              <a:ahLst/>
              <a:rect l="l" t="t" r="r" b="b"/>
              <a:pathLst>
                <a:path w="1050" h="268">
                  <a:moveTo>
                    <a:pt x="11" y="0"/>
                  </a:moveTo>
                  <a:cubicBezTo>
                    <a:pt x="5" y="69"/>
                    <a:pt x="0" y="138"/>
                    <a:pt x="11" y="180"/>
                  </a:cubicBezTo>
                  <a:cubicBezTo>
                    <a:pt x="22" y="222"/>
                    <a:pt x="38" y="244"/>
                    <a:pt x="77" y="255"/>
                  </a:cubicBezTo>
                  <a:cubicBezTo>
                    <a:pt x="116" y="266"/>
                    <a:pt x="105" y="247"/>
                    <a:pt x="247" y="246"/>
                  </a:cubicBezTo>
                  <a:cubicBezTo>
                    <a:pt x="389" y="245"/>
                    <a:pt x="804" y="268"/>
                    <a:pt x="927" y="246"/>
                  </a:cubicBezTo>
                  <a:cubicBezTo>
                    <a:pt x="1050" y="224"/>
                    <a:pt x="1017" y="169"/>
                    <a:pt x="984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2072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liable channel</a:t>
            </a:r>
            <a:endParaRPr b="0" lang="en-US" sz="32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cknowledgements (ACKs)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handle ACK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s for both request and reply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channel</a:t>
            </a:r>
            <a:endParaRPr b="0" lang="en-US" sz="32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y acts as ACK for request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ACK for response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communication on unreliable channels</a:t>
            </a:r>
            <a:endParaRPr b="0" lang="en-US" sz="32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protocol handles lost message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33" name=""/>
          <p:cNvSpPr/>
          <p:nvPr/>
        </p:nvSpPr>
        <p:spPr>
          <a:xfrm>
            <a:off x="7234920" y="15001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77120" y="18194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77840" y="20876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94400" y="24066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10440" y="1843200"/>
            <a:ext cx="86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210080" y="2112840"/>
            <a:ext cx="82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88200" y="2384280"/>
            <a:ext cx="86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302600" y="271476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612840" y="209808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8071920" y="2052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1840" y="35258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5000" y="381312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51560" y="41324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97840" y="3838680"/>
            <a:ext cx="86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245360" y="4110120"/>
            <a:ext cx="86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259760" y="444024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6570000" y="38235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8029080" y="37785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te Procedure C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Make distributed computing look like centralized computing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remote services to be called as procedure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cy with regard to location, implementation, languag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ass parameter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s in face of error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lasses: integrated into prog, language and separate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2077920" y="2144880"/>
            <a:ext cx="6315120" cy="43131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ntional Procedure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452240"/>
            <a:ext cx="42656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Helvetic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 passing in a local procedure call: the stack before the call to read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9400" y="1452240"/>
            <a:ext cx="42656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he stack while the called procedure is activ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meter Pa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Local procedure parameter passing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Call-by-valu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Call-by-reference: arrays, complex data structure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Remote procedure calls simulate this through: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Stubs – proxie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Flattening – marshalling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Related issue: global variables are not allowed in RPC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1143000" y="2133720"/>
            <a:ext cx="6505560" cy="3429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 and Server St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 of RPC between a client and server program.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makes procedure call (just like a local procedure call) to the client stub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is written as a standard procedure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s take care of packaging arguments and sending message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ing parameter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shalling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 compiler generates stub automatically from specs in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s programmer task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of a Remote Procedure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83680" y="1499760"/>
            <a:ext cx="85978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procedure calls client stub in normal way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stub builds message, calls local O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's OS sends message to remote O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OS gives message to server stub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stub unpacks parameters, calls server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does work, returns result to the stub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stub packs it in message, calls local O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's OS sends message to client's O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's OS gives message to client stub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b unpacks result, returns to client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an R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2209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18814" t="41541" r="17532" b="36254"/>
          <a:stretch/>
        </p:blipFill>
        <p:spPr>
          <a:xfrm>
            <a:off x="76320" y="1676520"/>
            <a:ext cx="9007200" cy="44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2: Commun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 in communication 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-oriented Communication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Procedure Call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cy but poor for passing reference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Method Invocation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Is are essentially RPCs but specific to remote object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wide references passed as parameter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am-oriented Communication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sha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4240" y="1322280"/>
            <a:ext cx="90597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different machines have different data format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: little endian, SPARC: big endian</a:t>
            </a:r>
            <a:endParaRPr b="0" lang="en-US" sz="2200" spc="-1" strike="noStrike">
              <a:solidFill>
                <a:srgbClr val="000000"/>
              </a:solidFill>
              <a:latin typeface="VNI-Helv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use a standard representation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external data representation (XDR)</a:t>
            </a:r>
            <a:endParaRPr b="0" lang="en-US" sz="2200" spc="-1" strike="noStrike">
              <a:solidFill>
                <a:srgbClr val="000000"/>
              </a:solidFill>
              <a:latin typeface="VNI-Helv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how do we pass pointers?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it points to a well-defined data structure, pass a copy and the server stub passes a pointer to the local copy </a:t>
            </a:r>
            <a:endParaRPr b="0" lang="en-US" sz="2200" spc="-1" strike="noStrike">
              <a:solidFill>
                <a:srgbClr val="000000"/>
              </a:solidFill>
              <a:latin typeface="VNI-Helv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data structures containing pointers? 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hibit</a:t>
            </a:r>
            <a:endParaRPr b="0" lang="en-US" sz="2200" spc="-1" strike="noStrike">
              <a:solidFill>
                <a:srgbClr val="000000"/>
              </a:solidFill>
              <a:latin typeface="VNI-Helve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se pointers over network</a:t>
            </a:r>
            <a:endParaRPr b="0" lang="en-US" sz="2200" spc="-1" strike="noStrike">
              <a:solidFill>
                <a:srgbClr val="000000"/>
              </a:solidFill>
              <a:latin typeface="VNI-Helv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halling: transform parameters/results into a byte stream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Problem: how does a client locate a server?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Use Binding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Export server interface during initialization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Send name, version no, unique identifier, handle (address) to binder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First RPC: send message to binder to import server interfac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Binder: check to see if server has exported interfac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90000"/>
              <a:buFont typeface="VNI-Helv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Return handle and unique identifier to client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e Study: SUNR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most widely used RPC system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for use with NF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on top of UDP or TCP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: stream is divided into records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: max packet size &lt; 8912 bytes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: timeout plus limited number of retransmissions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: return error if connection is terminated by server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arguments marshaled into a single structur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-least-once semantics if reply received, at-least-zero semantics if no reply. With UDP tries at-most-onc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UN’s eXternal Data Representation (XDR) 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endian order for 32 bit integers, handle arbitrarily large data structures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286160" y="1981080"/>
            <a:ext cx="4835520" cy="28987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der: Port Ma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452240"/>
            <a:ext cx="42656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tart-up: create  port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tub call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vc_regi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gister prog. #, version # with local port mapper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mapper stores prog #, version #, and port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tart-up: c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nt_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locate server port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turn, client can call procedures at the server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pcgen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ting st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82520" y="5305320"/>
            <a:ext cx="86868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_xdr.c: do XDR conversion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example: later in this course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95200" y="1424160"/>
            <a:ext cx="846468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weight RP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RPCs occur between client and server on same machine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optimize RPCs for this special case =&gt; use a lightweight RPC mechanism (LRPC)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s interface to remote procedure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ame machine imports interface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kernel creates data structures including an argument stack shared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weight RP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C execution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arguments onto stack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 to kern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changes mem map of client to server address spac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thread executes procedure (OS upcall)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traps to kernel upon completion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changes the address space back and returns control to client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“doors” in Solari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rcRect l="24347" t="38972" r="20240" b="33081"/>
          <a:stretch/>
        </p:blipFill>
        <p:spPr>
          <a:xfrm>
            <a:off x="1504800" y="1463760"/>
            <a:ext cx="6353280" cy="4430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5738400"/>
            <a:ext cx="8686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RPC to use?  - run-time bit allows stub to choose between LRPC and RPC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RPC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341360"/>
            <a:ext cx="868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nchronous RPC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-reply behavior often not needed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an reply as soon as request is received and execute procedure later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red-synchronous RPC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wo asynchronous RPCs 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needs a reply but can’t wait for it; server sends reply via another asynchronous RPC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way RPC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does not even wait for an ACK from the server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: reliability not guaranteed (Client does not know if procedure was executed by the server).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ynchronous RP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5187600"/>
            <a:ext cx="87278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The interconnection between client and server in a traditional RPC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The interaction using asynchronous RPC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816200" y="2409840"/>
            <a:ext cx="5486400" cy="4087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ion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452600"/>
            <a:ext cx="8686800" cy="15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are agreements/rules on communication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could be connection-oriented or connectionles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erred Synchronous R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ient and server interacting through two asynchronous RPC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392040" y="2409840"/>
            <a:ext cx="822960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ote Method Invocation (RM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RPCs applied to </a:t>
            </a:r>
            <a:r>
              <a:rPr b="0" i="1" lang="en-US" sz="2800" spc="-1" strike="noStrike">
                <a:solidFill>
                  <a:srgbClr val="000000"/>
                </a:solidFill>
                <a:latin typeface="VNI-Helve"/>
              </a:rPr>
              <a:t>objects, </a:t>
            </a: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i.e., instances of a clas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NI-Helve"/>
              </a:rPr>
              <a:t>Class: </a:t>
            </a: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object-oriented abstraction; module with data and operation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Separation between interface and implementation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Interface resides on one machine, implementation on another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RMIs support system-wide object reference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Parameters can be object reference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rcRect l="20309" t="41089" r="17318" b="35045"/>
          <a:stretch/>
        </p:blipFill>
        <p:spPr>
          <a:xfrm>
            <a:off x="973080" y="1486080"/>
            <a:ext cx="6934320" cy="37558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ed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11040" y="5092200"/>
            <a:ext cx="86868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lient binds to a distributed object, load the interface (“proxy”) into client address spac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 analogous to stubs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tub is referred to as a skeleton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xies and Skele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: client stub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server ID, endpoint, object ID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 up and tears down connection with the server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Java:] does  serialization of local object parameter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actice, can be downloaded/constructed on the fly (why can’t this be done for RPCs in general?)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leton: server stub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eserialization and passes parameters to server and sends result to proxy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R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interface and implements interface method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program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VNI-Helv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server object and registers object with “remote object” registry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up server in remote object registry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normal method call syntax for remote metho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tool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iregistry: server-side name server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ic: uses server interface to create client and server stub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ssage-oriented Transient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stributed systems built on top of simple message-oriented model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rkeley socket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0" y="2743200"/>
            <a:ext cx="899172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rkeley Socket Primi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274760" y="1544760"/>
          <a:ext cx="6938640" cy="4830120"/>
        </p:xfrm>
        <a:graphic>
          <a:graphicData uri="http://schemas.openxmlformats.org/drawingml/2006/table">
            <a:tbl>
              <a:tblPr/>
              <a:tblGrid>
                <a:gridCol w="1817640"/>
                <a:gridCol w="5121000"/>
              </a:tblGrid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Prim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Soc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Create a new communication end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B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Attach a local address to a soc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Announce willingness to accept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Block caller until a connection request arr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Conn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Actively attempt to establish a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S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Send some data over the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Rece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Receive some data over the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C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Release the conn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yered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ical message as it appears on the network.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84040" y="196380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-Server 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19000" y="2590560"/>
            <a:ext cx="62960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SzPct val="70000"/>
              <a:buFont typeface="VNI-Helv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Normal operation of TCP.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SzPct val="70000"/>
              <a:buFont typeface="VNI-Helv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2514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685800" y="1463760"/>
            <a:ext cx="71899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28221" t="41692" r="24347" b="35952"/>
          <a:stretch/>
        </p:blipFill>
        <p:spPr>
          <a:xfrm>
            <a:off x="1198440" y="2644920"/>
            <a:ext cx="6553440" cy="400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ddleware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36320"/>
            <a:ext cx="8673840" cy="19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ware: layer that resides between an OS and an application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implement general-purpose protocols that warrant their own layers. Ex: distributed commit 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-Server Communic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52600"/>
            <a:ext cx="868680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: group of servers offering service to client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a request/response paradigm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: 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ket, remote procedure calls (RPC), Remote Method Invocation (RMI)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5800" y="4648320"/>
            <a:ext cx="1143000" cy="990360"/>
            <a:chOff x="685800" y="4648320"/>
            <a:chExt cx="1143000" cy="990360"/>
          </a:xfrm>
        </p:grpSpPr>
        <p:sp>
          <p:nvSpPr>
            <p:cNvPr id="104" name=""/>
            <p:cNvSpPr/>
            <p:nvPr/>
          </p:nvSpPr>
          <p:spPr>
            <a:xfrm>
              <a:off x="685800" y="4648320"/>
              <a:ext cx="1143000" cy="990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" y="51814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120" y="525780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46360" y="4724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8280" y="4648320"/>
            <a:ext cx="1143000" cy="990360"/>
            <a:chOff x="2438280" y="4648320"/>
            <a:chExt cx="1143000" cy="990360"/>
          </a:xfrm>
        </p:grpSpPr>
        <p:sp>
          <p:nvSpPr>
            <p:cNvPr id="109" name=""/>
            <p:cNvSpPr/>
            <p:nvPr/>
          </p:nvSpPr>
          <p:spPr>
            <a:xfrm>
              <a:off x="2438280" y="4648320"/>
              <a:ext cx="1143000" cy="990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38280" y="51814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86600" y="525780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19720" y="4648320"/>
            <a:ext cx="1143000" cy="990360"/>
            <a:chOff x="4419720" y="4648320"/>
            <a:chExt cx="1143000" cy="990360"/>
          </a:xfrm>
        </p:grpSpPr>
        <p:sp>
          <p:nvSpPr>
            <p:cNvPr id="113" name=""/>
            <p:cNvSpPr/>
            <p:nvPr/>
          </p:nvSpPr>
          <p:spPr>
            <a:xfrm>
              <a:off x="4419720" y="4648320"/>
              <a:ext cx="1143000" cy="990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51814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68040" y="525780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400800" y="4648320"/>
            <a:ext cx="1143000" cy="990360"/>
            <a:chOff x="6400800" y="4648320"/>
            <a:chExt cx="1143000" cy="990360"/>
          </a:xfrm>
        </p:grpSpPr>
        <p:sp>
          <p:nvSpPr>
            <p:cNvPr id="117" name=""/>
            <p:cNvSpPr/>
            <p:nvPr/>
          </p:nvSpPr>
          <p:spPr>
            <a:xfrm>
              <a:off x="6400800" y="4648320"/>
              <a:ext cx="1143000" cy="990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51814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49120" y="5257800"/>
              <a:ext cx="8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066680" y="60958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01720" y="4648320"/>
            <a:ext cx="7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63360" y="4648320"/>
            <a:ext cx="9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35720" y="464832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rm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38360" y="5029200"/>
            <a:ext cx="901800" cy="863640"/>
          </a:xfrm>
          <a:custGeom>
            <a:avLst/>
            <a:gdLst/>
            <a:ahLst/>
            <a:rect l="l" t="t" r="r" b="b"/>
            <a:pathLst>
              <a:path w="568" h="544">
                <a:moveTo>
                  <a:pt x="24" y="0"/>
                </a:moveTo>
                <a:cubicBezTo>
                  <a:pt x="12" y="172"/>
                  <a:pt x="0" y="344"/>
                  <a:pt x="24" y="432"/>
                </a:cubicBezTo>
                <a:cubicBezTo>
                  <a:pt x="48" y="520"/>
                  <a:pt x="96" y="512"/>
                  <a:pt x="168" y="528"/>
                </a:cubicBezTo>
                <a:cubicBezTo>
                  <a:pt x="240" y="544"/>
                  <a:pt x="392" y="544"/>
                  <a:pt x="456" y="528"/>
                </a:cubicBezTo>
                <a:cubicBezTo>
                  <a:pt x="520" y="512"/>
                  <a:pt x="536" y="520"/>
                  <a:pt x="552" y="432"/>
                </a:cubicBezTo>
                <a:cubicBezTo>
                  <a:pt x="568" y="344"/>
                  <a:pt x="560" y="172"/>
                  <a:pt x="5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sues in Client-Server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ing versus non-blocking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ed versus unbuffered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le versus unreliable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architecture: concurrent versus sequential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ing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574992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is the server located?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-wired addres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address and process address are known a priori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-based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hooses address from a sparse address spac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broadcasts request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che response for futur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address via name server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568840" y="1747800"/>
            <a:ext cx="3263040" cy="4129920"/>
            <a:chOff x="5568840" y="1747800"/>
            <a:chExt cx="3263040" cy="4129920"/>
          </a:xfrm>
        </p:grpSpPr>
        <p:grpSp>
          <p:nvGrpSpPr>
            <p:cNvPr id="134" name=""/>
            <p:cNvGrpSpPr/>
            <p:nvPr/>
          </p:nvGrpSpPr>
          <p:grpSpPr>
            <a:xfrm>
              <a:off x="5568840" y="1747800"/>
              <a:ext cx="3066480" cy="845640"/>
              <a:chOff x="5568840" y="1747800"/>
              <a:chExt cx="3066480" cy="84564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5568840" y="1747800"/>
                <a:ext cx="786960" cy="571320"/>
                <a:chOff x="5568840" y="1747800"/>
                <a:chExt cx="786960" cy="57132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5568840" y="1772640"/>
                  <a:ext cx="786960" cy="546480"/>
                  <a:chOff x="5568840" y="1772640"/>
                  <a:chExt cx="786960" cy="5464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5568840" y="1772640"/>
                    <a:ext cx="786960" cy="546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568840" y="2136600"/>
                    <a:ext cx="786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" name=""/>
                <p:cNvSpPr/>
                <p:nvPr/>
              </p:nvSpPr>
              <p:spPr>
                <a:xfrm>
                  <a:off x="5621040" y="1747800"/>
                  <a:ext cx="601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812000" y="1747800"/>
                <a:ext cx="823320" cy="571320"/>
                <a:chOff x="7812000" y="1747800"/>
                <a:chExt cx="823320" cy="57132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7848360" y="1772280"/>
                  <a:ext cx="786960" cy="546840"/>
                  <a:chOff x="7848360" y="1772280"/>
                  <a:chExt cx="786960" cy="5468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7848360" y="1772280"/>
                    <a:ext cx="786960" cy="546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848360" y="2136600"/>
                    <a:ext cx="786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7812000" y="1747800"/>
                  <a:ext cx="777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5765400" y="2593440"/>
                <a:ext cx="265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62680" y="2319840"/>
                <a:ext cx="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227800" y="2319840"/>
                <a:ext cx="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56520" y="1863720"/>
                <a:ext cx="147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6356160" y="2046240"/>
                <a:ext cx="147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666760" y="3299040"/>
              <a:ext cx="3066840" cy="845280"/>
              <a:chOff x="5666760" y="3299040"/>
              <a:chExt cx="3066840" cy="8452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5666760" y="3299040"/>
                <a:ext cx="787320" cy="570960"/>
                <a:chOff x="5666760" y="3299040"/>
                <a:chExt cx="787320" cy="57096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5666760" y="3323880"/>
                  <a:ext cx="787320" cy="546120"/>
                  <a:chOff x="5666760" y="3323880"/>
                  <a:chExt cx="787320" cy="54612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5666760" y="3323880"/>
                    <a:ext cx="787320" cy="546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666760" y="3687840"/>
                    <a:ext cx="787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" name=""/>
                <p:cNvSpPr/>
                <p:nvPr/>
              </p:nvSpPr>
              <p:spPr>
                <a:xfrm>
                  <a:off x="5718960" y="3299040"/>
                  <a:ext cx="601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910280" y="3299040"/>
                <a:ext cx="823320" cy="570960"/>
                <a:chOff x="7910280" y="3299040"/>
                <a:chExt cx="823320" cy="57096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7946640" y="3323520"/>
                  <a:ext cx="786960" cy="546480"/>
                  <a:chOff x="7946640" y="3323520"/>
                  <a:chExt cx="786960" cy="54648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7946640" y="3323520"/>
                    <a:ext cx="786960" cy="546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946640" y="3687480"/>
                    <a:ext cx="786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>
                  <a:off x="7910280" y="3299040"/>
                  <a:ext cx="777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5864040" y="4144320"/>
                <a:ext cx="265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60600" y="3870720"/>
                <a:ext cx="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326080" y="3870720"/>
                <a:ext cx="0" cy="27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454800" y="3414960"/>
                <a:ext cx="147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454800" y="3597120"/>
                <a:ext cx="147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64040" y="3870720"/>
                <a:ext cx="344160" cy="212760"/>
              </a:xfrm>
              <a:custGeom>
                <a:avLst/>
                <a:gdLst/>
                <a:ahLst/>
                <a:rect l="l" t="t" r="r" b="b"/>
                <a:pathLst>
                  <a:path w="168" h="112">
                    <a:moveTo>
                      <a:pt x="144" y="0"/>
                    </a:moveTo>
                    <a:cubicBezTo>
                      <a:pt x="156" y="40"/>
                      <a:pt x="168" y="80"/>
                      <a:pt x="144" y="96"/>
                    </a:cubicBezTo>
                    <a:cubicBezTo>
                      <a:pt x="120" y="112"/>
                      <a:pt x="60" y="104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59240" y="3870720"/>
                <a:ext cx="344160" cy="212760"/>
              </a:xfrm>
              <a:custGeom>
                <a:avLst/>
                <a:gdLst/>
                <a:ahLst/>
                <a:rect l="l" t="t" r="r" b="b"/>
                <a:pathLst>
                  <a:path w="168" h="112">
                    <a:moveTo>
                      <a:pt x="24" y="0"/>
                    </a:moveTo>
                    <a:cubicBezTo>
                      <a:pt x="12" y="40"/>
                      <a:pt x="0" y="80"/>
                      <a:pt x="24" y="96"/>
                    </a:cubicBezTo>
                    <a:cubicBezTo>
                      <a:pt x="48" y="112"/>
                      <a:pt x="108" y="104"/>
                      <a:pt x="168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932600" y="3870720"/>
                <a:ext cx="344160" cy="212760"/>
              </a:xfrm>
              <a:custGeom>
                <a:avLst/>
                <a:gdLst/>
                <a:ahLst/>
                <a:rect l="l" t="t" r="r" b="b"/>
                <a:pathLst>
                  <a:path w="168" h="112">
                    <a:moveTo>
                      <a:pt x="144" y="0"/>
                    </a:moveTo>
                    <a:cubicBezTo>
                      <a:pt x="156" y="40"/>
                      <a:pt x="168" y="80"/>
                      <a:pt x="144" y="96"/>
                    </a:cubicBezTo>
                    <a:cubicBezTo>
                      <a:pt x="120" y="112"/>
                      <a:pt x="60" y="104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681160" y="5032080"/>
              <a:ext cx="3150720" cy="845640"/>
              <a:chOff x="5681160" y="5032080"/>
              <a:chExt cx="3150720" cy="845640"/>
            </a:xfrm>
          </p:grpSpPr>
          <p:sp>
            <p:nvSpPr>
              <p:cNvPr id="170" name=""/>
              <p:cNvSpPr/>
              <p:nvPr/>
            </p:nvSpPr>
            <p:spPr>
              <a:xfrm>
                <a:off x="5864040" y="5877720"/>
                <a:ext cx="265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6848640" y="5032080"/>
                <a:ext cx="786960" cy="845280"/>
                <a:chOff x="6848640" y="5032080"/>
                <a:chExt cx="786960" cy="84528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6848640" y="5032080"/>
                  <a:ext cx="786960" cy="571320"/>
                  <a:chOff x="6848640" y="5032080"/>
                  <a:chExt cx="786960" cy="571320"/>
                </a:xfrm>
              </p:grpSpPr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6848640" y="5056920"/>
                    <a:ext cx="786960" cy="546480"/>
                    <a:chOff x="6848640" y="5056920"/>
                    <a:chExt cx="786960" cy="54648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6848640" y="5056920"/>
                      <a:ext cx="786960" cy="54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6848640" y="542088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6" name=""/>
                  <p:cNvSpPr/>
                  <p:nvPr/>
                </p:nvSpPr>
                <p:spPr>
                  <a:xfrm>
                    <a:off x="6900840" y="5032080"/>
                    <a:ext cx="6012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s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" name=""/>
                <p:cNvSpPr/>
                <p:nvPr/>
              </p:nvSpPr>
              <p:spPr>
                <a:xfrm>
                  <a:off x="7242480" y="5604120"/>
                  <a:ext cx="0" cy="27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8008920" y="5032080"/>
                <a:ext cx="822960" cy="845280"/>
                <a:chOff x="8008920" y="5032080"/>
                <a:chExt cx="822960" cy="84528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8008920" y="5032080"/>
                  <a:ext cx="822960" cy="571320"/>
                  <a:chOff x="8008920" y="5032080"/>
                  <a:chExt cx="822960" cy="571320"/>
                </a:xfrm>
              </p:grpSpPr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8045280" y="5056560"/>
                    <a:ext cx="786600" cy="546840"/>
                    <a:chOff x="8045280" y="5056560"/>
                    <a:chExt cx="786600" cy="54684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8045280" y="5056560"/>
                      <a:ext cx="786600" cy="546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8045280" y="5420880"/>
                      <a:ext cx="786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" name=""/>
                  <p:cNvSpPr/>
                  <p:nvPr/>
                </p:nvSpPr>
                <p:spPr>
                  <a:xfrm>
                    <a:off x="8008920" y="5032080"/>
                    <a:ext cx="777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erv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>
                  <a:off x="8424720" y="5604120"/>
                  <a:ext cx="0" cy="27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681160" y="5032080"/>
                <a:ext cx="786960" cy="845280"/>
                <a:chOff x="5681160" y="5032080"/>
                <a:chExt cx="786960" cy="84528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5681160" y="5032080"/>
                  <a:ext cx="786960" cy="571320"/>
                  <a:chOff x="5681160" y="5032080"/>
                  <a:chExt cx="786960" cy="571320"/>
                </a:xfrm>
              </p:grpSpPr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5681160" y="5056560"/>
                    <a:ext cx="786960" cy="546840"/>
                    <a:chOff x="5681160" y="5056560"/>
                    <a:chExt cx="786960" cy="54684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5681160" y="5056560"/>
                      <a:ext cx="786960" cy="546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5681160" y="5420880"/>
                      <a:ext cx="786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" name=""/>
                  <p:cNvSpPr/>
                  <p:nvPr/>
                </p:nvSpPr>
                <p:spPr>
                  <a:xfrm>
                    <a:off x="5809320" y="5032080"/>
                    <a:ext cx="4460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6060240" y="5604120"/>
                  <a:ext cx="0" cy="27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 flipH="1">
                <a:off x="6454440" y="514800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54800" y="533052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37040" y="514800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7636680" y="5330520"/>
                <a:ext cx="39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20:12:22Z</dcterms:created>
  <dc:creator>Steve  Armstrong</dc:creator>
  <dc:description/>
  <dc:language>en-US</dc:language>
  <cp:lastModifiedBy>Your User Name</cp:lastModifiedBy>
  <dcterms:modified xsi:type="dcterms:W3CDTF">2006-01-08T08:40:28Z</dcterms:modified>
  <cp:revision>144</cp:revision>
  <dc:subject/>
  <dc:title>Introduction</dc:title>
</cp:coreProperties>
</file>