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C87-4DB5-425E-9B98-1CF46491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9C4-3E55-4B45-B5A9-FAB0042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534-D3FA-4356-A5E2-8B8AFB65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453-939D-4E76-B5D1-35AF9629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BB8D-5342-4093-8138-BABD37C8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ED8F-2D36-43C8-BE15-D86EEA2E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4251-4255-437A-9E2F-759B510A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9C2A-73AE-40C5-B1DB-BE17AFFE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7768-F178-4278-8668-674AF2A0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8F3-E488-4D80-B419-D872398F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D8D0-4641-46BC-A1DE-01C552F0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FD3-7C5A-4A6A-8A9D-77693E3B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4EB9-6413-4782-B9D2-088C995F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92C8-1A30-43F5-9F8A-29BF59D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6985-3D4E-4E30-9F5B-5447E6AF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97C-65DF-4F7A-A9A5-826DF7EC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5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954960"/>
            <a:ext cx="263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276-F46A-4EDF-B27E-99FB21DD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F03-639C-411E-A8C8-68F71C4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B2F-1E3B-40A3-8EFE-ABF897B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940-54BE-4F86-A3CC-628D6846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04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DF7-D171-4C59-B4FC-2BD5ECDE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444-1072-441C-91FB-D866AB4B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9549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1FD-7D70-4C87-BFBC-077AE5B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560"/>
            <a:ext cx="3990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4960"/>
            <a:ext cx="8178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485-085C-4462-93F1-E9BF4CB3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280" y="6400800"/>
            <a:ext cx="1473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81080" y="6400800"/>
            <a:ext cx="55627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Instructor’s Guide for  Coulouris, Dollimore and Kindberg   Distributed Systems: Concepts and Design   Edn. 4  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©  Pearson Education 200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400800"/>
            <a:ext cx="1015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AA18-F90D-4375-A859-AAF39FD98B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E946-E673-4660-B311-EFD23AE063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8153280" cy="0"/>
          </a:xfrm>
          <a:prstGeom prst="line">
            <a:avLst/>
          </a:prstGeom>
          <a:ln w="127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lides for Chapter 11: </a:t>
            </a:r>
            <a:br>
              <a:rPr sz="3200"/>
            </a:b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ime and Global State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28954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663300"/>
                </a:solidFill>
                <a:latin typeface="Arial"/>
              </a:rPr>
              <a:t>From</a:t>
            </a:r>
            <a:r>
              <a:rPr b="0" lang="en-GB" sz="1800" spc="-1" strike="noStrike">
                <a:solidFill>
                  <a:srgbClr val="663300"/>
                </a:solidFill>
                <a:latin typeface="Arial Black"/>
              </a:rPr>
              <a:t> Coulouris, Dollimore and Kindberg</a:t>
            </a:r>
            <a:br>
              <a:rPr sz="18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Distributed Systems: </a:t>
            </a:r>
            <a:br>
              <a:rPr sz="2000"/>
            </a:b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	</a:t>
            </a:r>
            <a:r>
              <a:rPr b="0" lang="en-GB" sz="2000" spc="-1" strike="noStrike">
                <a:solidFill>
                  <a:srgbClr val="663300"/>
                </a:solidFill>
                <a:latin typeface="Arial Black"/>
              </a:rPr>
              <a:t>Concepts and Design</a:t>
            </a:r>
            <a:endParaRPr b="0" lang="en-US" sz="2000" spc="-1" strike="noStrike">
              <a:solidFill>
                <a:srgbClr val="663300"/>
              </a:solidFill>
              <a:latin typeface="Arial Black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Edition 4, © Pearson Education 2005</a:t>
            </a:r>
            <a:endParaRPr b="0" lang="en-US" sz="1800" spc="-1" strike="noStrike">
              <a:solidFill>
                <a:srgbClr val="66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3070080"/>
            <a:ext cx="189396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9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ut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3120" y="1890720"/>
            <a:ext cx="8025840" cy="3146400"/>
            <a:chOff x="573120" y="1890720"/>
            <a:chExt cx="8025840" cy="3146400"/>
          </a:xfrm>
        </p:grpSpPr>
        <p:sp>
          <p:nvSpPr>
            <p:cNvPr id="183" name=""/>
            <p:cNvSpPr/>
            <p:nvPr/>
          </p:nvSpPr>
          <p:spPr>
            <a:xfrm>
              <a:off x="7435800" y="235584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19"/>
                  </a:moveTo>
                  <a:lnTo>
                    <a:pt x="0" y="0"/>
                  </a:lnTo>
                  <a:lnTo>
                    <a:pt x="71" y="19"/>
                  </a:lnTo>
                  <a:lnTo>
                    <a:pt x="0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00000" y="2386080"/>
              <a:ext cx="653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35800" y="3581280"/>
              <a:ext cx="112680" cy="3204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0" y="20"/>
                  </a:moveTo>
                  <a:lnTo>
                    <a:pt x="0" y="0"/>
                  </a:lnTo>
                  <a:lnTo>
                    <a:pt x="71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000" y="3613320"/>
              <a:ext cx="653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000" y="2233440"/>
              <a:ext cx="1800" cy="156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7332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9560" y="2325600"/>
              <a:ext cx="1144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30520" y="3398760"/>
              <a:ext cx="141480" cy="1224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18" y="19"/>
                  </a:moveTo>
                  <a:lnTo>
                    <a:pt x="18" y="0"/>
                  </a:lnTo>
                  <a:lnTo>
                    <a:pt x="89" y="77"/>
                  </a:lnTo>
                  <a:lnTo>
                    <a:pt x="0" y="57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73320" y="2325600"/>
              <a:ext cx="1357200" cy="110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1360" y="2478240"/>
              <a:ext cx="84240" cy="153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18" y="77"/>
                  </a:moveTo>
                  <a:lnTo>
                    <a:pt x="0" y="58"/>
                  </a:lnTo>
                  <a:lnTo>
                    <a:pt x="53" y="0"/>
                  </a:lnTo>
                  <a:lnTo>
                    <a:pt x="35" y="97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68840" y="2600280"/>
              <a:ext cx="480960" cy="10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55560" y="286056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42760" y="2973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9560" y="2922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8200" y="3035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3120" y="2370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9840" y="2482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120" y="3505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9840" y="3616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85280" y="338292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15320" y="365760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0560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2520" y="2325600"/>
              <a:ext cx="11268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968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5728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558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10520" y="476244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stent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1920" y="4486320"/>
              <a:ext cx="158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onsistent c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72000" y="3521160"/>
              <a:ext cx="11412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9760" y="3521160"/>
              <a:ext cx="1130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11960" y="35211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4488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0184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018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2436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132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456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08840" y="1971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5800" y="210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69040" y="189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316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4012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4336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9740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5436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5760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384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86560" y="394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89440" y="3760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82640" y="1957320"/>
              <a:ext cx="2470320" cy="240516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8040" y="1982880"/>
              <a:ext cx="1347840" cy="240480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10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handy and Lamport’s ‘snapshot’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7320" y="1550880"/>
            <a:ext cx="8146440" cy="46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receiv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receipt of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over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 yet recorded its state)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its process state no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empty s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s on recording of messages arriving over other incoming channe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ords the stat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set of messages it has received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t saved its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r sending rule for process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recorded its state, for each outgoing chann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nds one mark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378000"/>
                <a:tab algn="l" pos="766800"/>
                <a:tab algn="l" pos="1144440"/>
                <a:tab algn="l" pos="15210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fore it sends any other message ov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 processes and their initial stat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01560" y="2195640"/>
            <a:ext cx="80758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execution of the processes in Figure 11.11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2880" y="1539720"/>
            <a:ext cx="803124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1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Reachability between states in the snapshot algorith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7360" y="1984320"/>
            <a:ext cx="7781760" cy="2778120"/>
            <a:chOff x="657360" y="1984320"/>
            <a:chExt cx="7781760" cy="2778120"/>
          </a:xfrm>
        </p:grpSpPr>
        <p:sp>
          <p:nvSpPr>
            <p:cNvPr id="242" name=""/>
            <p:cNvSpPr/>
            <p:nvPr/>
          </p:nvSpPr>
          <p:spPr>
            <a:xfrm>
              <a:off x="1684440" y="2666880"/>
              <a:ext cx="1025280" cy="1111320"/>
            </a:xfrm>
            <a:custGeom>
              <a:avLst/>
              <a:gdLst/>
              <a:ahLst/>
              <a:rect l="l" t="t" r="r" b="b"/>
              <a:pathLst>
                <a:path w="646" h="700">
                  <a:moveTo>
                    <a:pt x="0" y="360"/>
                  </a:moveTo>
                  <a:lnTo>
                    <a:pt x="332" y="0"/>
                  </a:lnTo>
                  <a:lnTo>
                    <a:pt x="646" y="360"/>
                  </a:lnTo>
                  <a:lnTo>
                    <a:pt x="332" y="70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31040" y="2666880"/>
              <a:ext cx="1027080" cy="1079640"/>
            </a:xfrm>
            <a:custGeom>
              <a:avLst/>
              <a:gdLst/>
              <a:ahLst/>
              <a:rect l="l" t="t" r="r" b="b"/>
              <a:pathLst>
                <a:path w="647" h="680">
                  <a:moveTo>
                    <a:pt x="0" y="340"/>
                  </a:moveTo>
                  <a:lnTo>
                    <a:pt x="333" y="0"/>
                  </a:lnTo>
                  <a:lnTo>
                    <a:pt x="647" y="340"/>
                  </a:lnTo>
                  <a:lnTo>
                    <a:pt x="333" y="68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45040" y="3651120"/>
              <a:ext cx="996840" cy="1111320"/>
            </a:xfrm>
            <a:custGeom>
              <a:avLst/>
              <a:gdLst/>
              <a:ahLst/>
              <a:rect l="l" t="t" r="r" b="b"/>
              <a:pathLst>
                <a:path w="628" h="700">
                  <a:moveTo>
                    <a:pt x="0" y="360"/>
                  </a:moveTo>
                  <a:lnTo>
                    <a:pt x="314" y="0"/>
                  </a:lnTo>
                  <a:lnTo>
                    <a:pt x="628" y="360"/>
                  </a:lnTo>
                  <a:lnTo>
                    <a:pt x="314" y="70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ffdc99"/>
            </a:solidFill>
            <a:ln w="28440">
              <a:solidFill>
                <a:srgbClr val="ffd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6040" y="3095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0480" y="3211560"/>
              <a:ext cx="24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94200" y="30956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0080" y="3211560"/>
              <a:ext cx="35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6720" y="3143160"/>
              <a:ext cx="11772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0" y="40"/>
                  </a:moveTo>
                  <a:lnTo>
                    <a:pt x="0" y="0"/>
                  </a:lnTo>
                  <a:lnTo>
                    <a:pt x="74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7360" y="3206880"/>
              <a:ext cx="9093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52000" y="3143160"/>
              <a:ext cx="87120" cy="12708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40"/>
                  </a:moveTo>
                  <a:lnTo>
                    <a:pt x="0" y="0"/>
                  </a:lnTo>
                  <a:lnTo>
                    <a:pt x="55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8120" y="3206880"/>
              <a:ext cx="877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07080" y="2698920"/>
              <a:ext cx="117720" cy="12672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7" y="20"/>
                  </a:moveTo>
                  <a:lnTo>
                    <a:pt x="74" y="0"/>
                  </a:lnTo>
                  <a:lnTo>
                    <a:pt x="74" y="80"/>
                  </a:lnTo>
                  <a:lnTo>
                    <a:pt x="0" y="4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97480" y="2349360"/>
              <a:ext cx="2168280" cy="349560"/>
            </a:xfrm>
            <a:custGeom>
              <a:avLst/>
              <a:gdLst/>
              <a:ahLst/>
              <a:rect l="l" t="t" r="r" b="b"/>
              <a:pathLst>
                <a:path w="1366" h="220">
                  <a:moveTo>
                    <a:pt x="0" y="0"/>
                  </a:moveTo>
                  <a:lnTo>
                    <a:pt x="886" y="40"/>
                  </a:lnTo>
                  <a:lnTo>
                    <a:pt x="1200" y="120"/>
                  </a:lnTo>
                  <a:lnTo>
                    <a:pt x="1366" y="22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57280" y="2349360"/>
              <a:ext cx="448596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5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56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13280" y="4127400"/>
              <a:ext cx="8892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40"/>
                  </a:moveTo>
                  <a:lnTo>
                    <a:pt x="0" y="0"/>
                  </a:lnTo>
                  <a:lnTo>
                    <a:pt x="56" y="40"/>
                  </a:lnTo>
                  <a:lnTo>
                    <a:pt x="0" y="8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8600" y="3697200"/>
              <a:ext cx="1700280" cy="493920"/>
            </a:xfrm>
            <a:custGeom>
              <a:avLst/>
              <a:gdLst/>
              <a:ahLst/>
              <a:rect l="l" t="t" r="r" b="b"/>
              <a:pathLst>
                <a:path w="1071" h="340">
                  <a:moveTo>
                    <a:pt x="1071" y="340"/>
                  </a:moveTo>
                  <a:lnTo>
                    <a:pt x="646" y="300"/>
                  </a:lnTo>
                  <a:lnTo>
                    <a:pt x="314" y="240"/>
                  </a:lnTo>
                  <a:lnTo>
                    <a:pt x="93" y="120"/>
                  </a:lnTo>
                  <a:lnTo>
                    <a:pt x="37" y="6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4800" y="3714840"/>
              <a:ext cx="11736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7" y="60"/>
                  </a:moveTo>
                  <a:lnTo>
                    <a:pt x="0" y="40"/>
                  </a:lnTo>
                  <a:lnTo>
                    <a:pt x="74" y="0"/>
                  </a:lnTo>
                  <a:lnTo>
                    <a:pt x="74" y="8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95720" y="3809880"/>
              <a:ext cx="1787760" cy="381240"/>
            </a:xfrm>
            <a:custGeom>
              <a:avLst/>
              <a:gdLst/>
              <a:ahLst/>
              <a:rect l="l" t="t" r="r" b="b"/>
              <a:pathLst>
                <a:path w="1126" h="240">
                  <a:moveTo>
                    <a:pt x="1126" y="0"/>
                  </a:moveTo>
                  <a:lnTo>
                    <a:pt x="994" y="122"/>
                  </a:lnTo>
                  <a:lnTo>
                    <a:pt x="738" y="200"/>
                  </a:lnTo>
                  <a:lnTo>
                    <a:pt x="0" y="24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79760" y="4079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33480" y="419580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na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3920" y="1984320"/>
              <a:ext cx="194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ctual execution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9360" y="2100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54480" y="198432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49600" y="2100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4360" y="198432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93960" y="300024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ording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02160" y="3095640"/>
              <a:ext cx="1073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cording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93960" y="3286080"/>
              <a:ext cx="711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egin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02160" y="33814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nd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80800" y="4334040"/>
              <a:ext cx="1221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e-snap: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6808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30000" y="44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35120" y="4334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24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92160" y="4449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96560" y="433404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8716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0160" y="444960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31320" y="4334040"/>
              <a:ext cx="1328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ost-snap: 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2120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4920" y="444960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19920" y="433404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14680" y="4270320"/>
              <a:ext cx="66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8040" y="4449600"/>
              <a:ext cx="355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+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27600" y="4334040"/>
              <a:ext cx="268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,..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and variable values for the execution of Figure 11.9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33240" y="1906560"/>
            <a:ext cx="7965720" cy="3289320"/>
            <a:chOff x="633240" y="1906560"/>
            <a:chExt cx="7965720" cy="3289320"/>
          </a:xfrm>
        </p:grpSpPr>
        <p:sp>
          <p:nvSpPr>
            <p:cNvPr id="289" name=""/>
            <p:cNvSpPr/>
            <p:nvPr/>
          </p:nvSpPr>
          <p:spPr>
            <a:xfrm>
              <a:off x="7440480" y="262080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20"/>
                  </a:moveTo>
                  <a:lnTo>
                    <a:pt x="0" y="0"/>
                  </a:lnTo>
                  <a:lnTo>
                    <a:pt x="71" y="20"/>
                  </a:lnTo>
                  <a:lnTo>
                    <a:pt x="0" y="3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57240" y="2652840"/>
              <a:ext cx="64832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40480" y="3807000"/>
              <a:ext cx="112680" cy="6156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0" y="19"/>
                  </a:moveTo>
                  <a:lnTo>
                    <a:pt x="0" y="0"/>
                  </a:lnTo>
                  <a:lnTo>
                    <a:pt x="71" y="19"/>
                  </a:lnTo>
                  <a:lnTo>
                    <a:pt x="0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57240" y="3836880"/>
              <a:ext cx="64832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57240" y="2470320"/>
              <a:ext cx="1440" cy="157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20840" y="2590920"/>
              <a:ext cx="1112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096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7240" y="3654360"/>
              <a:ext cx="141120" cy="122400"/>
            </a:xfrm>
            <a:custGeom>
              <a:avLst/>
              <a:gdLst/>
              <a:ahLst/>
              <a:rect l="l" t="t" r="r" b="b"/>
              <a:pathLst>
                <a:path w="89" h="77">
                  <a:moveTo>
                    <a:pt x="18" y="39"/>
                  </a:moveTo>
                  <a:lnTo>
                    <a:pt x="18" y="0"/>
                  </a:lnTo>
                  <a:lnTo>
                    <a:pt x="89" y="77"/>
                  </a:lnTo>
                  <a:lnTo>
                    <a:pt x="0" y="58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47840" y="2652840"/>
              <a:ext cx="1319400" cy="10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37200" y="2743200"/>
              <a:ext cx="84240" cy="15228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18" y="77"/>
                  </a:moveTo>
                  <a:lnTo>
                    <a:pt x="0" y="57"/>
                  </a:lnTo>
                  <a:lnTo>
                    <a:pt x="53" y="0"/>
                  </a:lnTo>
                  <a:lnTo>
                    <a:pt x="35" y="96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587920" y="2865600"/>
              <a:ext cx="478080" cy="100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99840" y="31226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87400" y="3233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36840" y="315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4400" y="32637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3240" y="263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8520" y="27478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3240" y="37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8520" y="3871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85280" y="363852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c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21800" y="3913200"/>
              <a:ext cx="4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2144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06520" y="259092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46680" y="485460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t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19080" y="4967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540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532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0876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708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0992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5400" y="439884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,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21040" y="190656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8080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9348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93200" y="2241720"/>
              <a:ext cx="32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476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1564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16080" y="224172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0332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1420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224172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080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6348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63920" y="4065480"/>
              <a:ext cx="578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256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9560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95320" y="406548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6920" y="406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49600" y="4176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49680" y="406548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3640" y="2241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6320" y="235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116400" y="2241720"/>
              <a:ext cx="4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8360" y="3776760"/>
              <a:ext cx="11124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7000" y="37767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32480" y="3776760"/>
              <a:ext cx="11268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81760" y="470052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t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78440" y="4632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4280" y="2228760"/>
              <a:ext cx="2469960" cy="252432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8040" y="2254320"/>
              <a:ext cx="1347840" cy="2405160"/>
            </a:xfrm>
            <a:custGeom>
              <a:avLst/>
              <a:gdLst/>
              <a:ahLst/>
              <a:rect l="l" t="t" r="r" b="b"/>
              <a:pathLst>
                <a:path w="1556" h="1515">
                  <a:moveTo>
                    <a:pt x="39" y="0"/>
                  </a:moveTo>
                  <a:cubicBezTo>
                    <a:pt x="68" y="63"/>
                    <a:pt x="0" y="249"/>
                    <a:pt x="211" y="376"/>
                  </a:cubicBezTo>
                  <a:cubicBezTo>
                    <a:pt x="422" y="503"/>
                    <a:pt x="1081" y="572"/>
                    <a:pt x="1305" y="762"/>
                  </a:cubicBezTo>
                  <a:cubicBezTo>
                    <a:pt x="1529" y="952"/>
                    <a:pt x="1518" y="1391"/>
                    <a:pt x="1556" y="1515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e lattice of global states for the execution of Figure 11.14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542160" y="1679400"/>
            <a:ext cx="8159040" cy="3978360"/>
            <a:chOff x="542160" y="1679400"/>
            <a:chExt cx="8159040" cy="3978360"/>
          </a:xfrm>
        </p:grpSpPr>
        <p:sp>
          <p:nvSpPr>
            <p:cNvPr id="351" name=""/>
            <p:cNvSpPr/>
            <p:nvPr/>
          </p:nvSpPr>
          <p:spPr>
            <a:xfrm>
              <a:off x="2289240" y="2886840"/>
              <a:ext cx="955440" cy="1038600"/>
            </a:xfrm>
            <a:custGeom>
              <a:avLst/>
              <a:gdLst/>
              <a:ahLst/>
              <a:rect l="l" t="t" r="r" b="b"/>
              <a:pathLst>
                <a:path w="602" h="671">
                  <a:moveTo>
                    <a:pt x="0" y="344"/>
                  </a:moveTo>
                  <a:lnTo>
                    <a:pt x="301" y="0"/>
                  </a:lnTo>
                  <a:lnTo>
                    <a:pt x="602" y="344"/>
                  </a:lnTo>
                  <a:lnTo>
                    <a:pt x="301" y="671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5240" y="2871360"/>
              <a:ext cx="412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Sij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= global state after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events at process 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7760" y="3123720"/>
              <a:ext cx="2818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events at process 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66960" y="1876320"/>
              <a:ext cx="982800" cy="1010520"/>
            </a:xfrm>
            <a:custGeom>
              <a:avLst/>
              <a:gdLst/>
              <a:ahLst/>
              <a:rect l="l" t="t" r="r" b="b"/>
              <a:pathLst>
                <a:path w="619" h="653">
                  <a:moveTo>
                    <a:pt x="0" y="653"/>
                  </a:moveTo>
                  <a:lnTo>
                    <a:pt x="318" y="326"/>
                  </a:lnTo>
                  <a:lnTo>
                    <a:pt x="619" y="0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66960" y="3419280"/>
              <a:ext cx="957240" cy="1010880"/>
            </a:xfrm>
            <a:custGeom>
              <a:avLst/>
              <a:gdLst/>
              <a:ahLst/>
              <a:rect l="l" t="t" r="r" b="b"/>
              <a:pathLst>
                <a:path w="603" h="653">
                  <a:moveTo>
                    <a:pt x="0" y="327"/>
                  </a:moveTo>
                  <a:lnTo>
                    <a:pt x="301" y="0"/>
                  </a:lnTo>
                  <a:lnTo>
                    <a:pt x="603" y="327"/>
                  </a:lnTo>
                  <a:lnTo>
                    <a:pt x="301" y="653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4680" y="3925440"/>
              <a:ext cx="984600" cy="1010880"/>
            </a:xfrm>
            <a:custGeom>
              <a:avLst/>
              <a:gdLst/>
              <a:ahLst/>
              <a:rect l="l" t="t" r="r" b="b"/>
              <a:pathLst>
                <a:path w="620" h="653">
                  <a:moveTo>
                    <a:pt x="0" y="326"/>
                  </a:moveTo>
                  <a:lnTo>
                    <a:pt x="302" y="0"/>
                  </a:lnTo>
                  <a:lnTo>
                    <a:pt x="620" y="326"/>
                  </a:lnTo>
                  <a:lnTo>
                    <a:pt x="302" y="653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3244680" y="4936680"/>
              <a:ext cx="479520" cy="5320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91000" y="1679400"/>
              <a:ext cx="3445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5840" y="17215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7680" y="1823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12920" y="2213640"/>
              <a:ext cx="3445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30200" y="22536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73480" y="2357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81200" y="2746080"/>
              <a:ext cx="3445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06400" y="27878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47880" y="2890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12920" y="3252240"/>
              <a:ext cx="3175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17600" y="32922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59080" y="339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8680" y="3252240"/>
              <a:ext cx="31932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1560" y="32922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3400" y="339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06760" y="3756600"/>
              <a:ext cx="31896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15760" y="379836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57600" y="3900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86280" y="4261320"/>
              <a:ext cx="318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96720" y="4330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40000" y="443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37000" y="3784680"/>
              <a:ext cx="345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58960" y="38264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01880" y="3928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68720" y="4289040"/>
              <a:ext cx="318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80960" y="433080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22800" y="4433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4000" y="4795560"/>
              <a:ext cx="345960" cy="30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8840" y="483732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0680" y="4939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6280" y="5300280"/>
              <a:ext cx="3441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07880" y="53420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49720" y="5444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2160" y="1721520"/>
              <a:ext cx="698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evel 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22480" y="2253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22480" y="2759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22480" y="32922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22480" y="3798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22480" y="43308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22480" y="4837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22480" y="5369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6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gorithms to evaluat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possibly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11080" y="1386000"/>
            <a:ext cx="72043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aluating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efinitely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541440" y="1841400"/>
            <a:ext cx="8039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kew between computer clocks in a distributed system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9680" y="2685960"/>
            <a:ext cx="8215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2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Clock synchronization using a time server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42960" y="2373480"/>
            <a:ext cx="7642080" cy="1956240"/>
            <a:chOff x="642960" y="2373480"/>
            <a:chExt cx="7642080" cy="1956240"/>
          </a:xfrm>
        </p:grpSpPr>
        <p:sp>
          <p:nvSpPr>
            <p:cNvPr id="91" name=""/>
            <p:cNvSpPr/>
            <p:nvPr/>
          </p:nvSpPr>
          <p:spPr>
            <a:xfrm>
              <a:off x="642960" y="2387520"/>
              <a:ext cx="1897200" cy="1446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8200" y="2387520"/>
              <a:ext cx="1896840" cy="144612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3920" y="2622600"/>
              <a:ext cx="934920" cy="97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89840" y="2739960"/>
              <a:ext cx="226800" cy="20628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9840" y="2739960"/>
              <a:ext cx="226800" cy="20628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58"/>
                  </a:moveTo>
                  <a:lnTo>
                    <a:pt x="0" y="135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55" y="5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3160" y="2828880"/>
              <a:ext cx="4216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01960" y="3301920"/>
              <a:ext cx="226800" cy="2365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1960" y="3301920"/>
              <a:ext cx="226800" cy="23652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0" y="77"/>
                  </a:moveTo>
                  <a:lnTo>
                    <a:pt x="155" y="0"/>
                  </a:lnTo>
                  <a:lnTo>
                    <a:pt x="155" y="77"/>
                  </a:lnTo>
                  <a:lnTo>
                    <a:pt x="155" y="155"/>
                  </a:lnTo>
                  <a:lnTo>
                    <a:pt x="0" y="7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228400" y="3419640"/>
              <a:ext cx="48387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2320" y="2771640"/>
              <a:ext cx="112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02320" y="2771640"/>
              <a:ext cx="141480" cy="206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7680" y="2771640"/>
              <a:ext cx="1126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27680" y="2771640"/>
              <a:ext cx="142920" cy="206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51320" y="2771640"/>
              <a:ext cx="5724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51320" y="3332160"/>
              <a:ext cx="5724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0600" y="2622600"/>
              <a:ext cx="905040" cy="974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8320" y="237348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5040" y="2481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37920" y="36417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70480" y="3749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8720" y="3965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01680" y="4024440"/>
              <a:ext cx="1585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 server,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2743200"/>
              <a:ext cx="84240" cy="206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1320" y="3332160"/>
              <a:ext cx="84240" cy="23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3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An example synchronization subnet in an NTP implementation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5840" y="1550880"/>
            <a:ext cx="7454880" cy="4391280"/>
            <a:chOff x="915840" y="1550880"/>
            <a:chExt cx="7454880" cy="4391280"/>
          </a:xfrm>
        </p:grpSpPr>
        <p:sp>
          <p:nvSpPr>
            <p:cNvPr id="117" name=""/>
            <p:cNvSpPr/>
            <p:nvPr/>
          </p:nvSpPr>
          <p:spPr>
            <a:xfrm>
              <a:off x="2058480" y="4024800"/>
              <a:ext cx="115920" cy="9396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63" y="16"/>
                  </a:moveTo>
                  <a:lnTo>
                    <a:pt x="79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150640" y="3505680"/>
              <a:ext cx="530280" cy="54252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36160" y="4048560"/>
              <a:ext cx="92160" cy="939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16" y="16"/>
                  </a:moveTo>
                  <a:lnTo>
                    <a:pt x="31" y="0"/>
                  </a:lnTo>
                  <a:lnTo>
                    <a:pt x="63" y="63"/>
                  </a:lnTo>
                  <a:lnTo>
                    <a:pt x="0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1240" y="3529440"/>
              <a:ext cx="484560" cy="518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98040" y="2751840"/>
              <a:ext cx="114120" cy="939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3" y="16"/>
                  </a:moveTo>
                  <a:lnTo>
                    <a:pt x="78" y="32"/>
                  </a:lnTo>
                  <a:lnTo>
                    <a:pt x="0" y="63"/>
                  </a:lnTo>
                  <a:lnTo>
                    <a:pt x="47" y="0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490200" y="2304720"/>
              <a:ext cx="575640" cy="47088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2720" y="2729160"/>
              <a:ext cx="91800" cy="9396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15"/>
                  </a:moveTo>
                  <a:lnTo>
                    <a:pt x="16" y="0"/>
                  </a:lnTo>
                  <a:lnTo>
                    <a:pt x="63" y="63"/>
                  </a:lnTo>
                  <a:lnTo>
                    <a:pt x="0" y="3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51720" y="2304720"/>
              <a:ext cx="530640" cy="424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8520" y="4000680"/>
              <a:ext cx="115560" cy="1180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6" y="16"/>
                  </a:moveTo>
                  <a:lnTo>
                    <a:pt x="31" y="0"/>
                  </a:lnTo>
                  <a:lnTo>
                    <a:pt x="79" y="79"/>
                  </a:lnTo>
                  <a:lnTo>
                    <a:pt x="0" y="32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89840" y="3505680"/>
              <a:ext cx="531720" cy="518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74040" y="1550880"/>
              <a:ext cx="9698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3760" y="2705400"/>
              <a:ext cx="94680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58960" y="2705400"/>
              <a:ext cx="9698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74760" y="4048560"/>
              <a:ext cx="94500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13120" y="4048560"/>
              <a:ext cx="92304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29400" y="4048560"/>
              <a:ext cx="945360" cy="966240"/>
            </a:xfrm>
            <a:prstGeom prst="ellipse">
              <a:avLst/>
            </a:prstGeom>
            <a:solidFill>
              <a:srgbClr val="ffdc99"/>
            </a:solidFill>
            <a:ln w="3636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00280" y="1985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69640" y="314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992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84840" y="314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390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4200" y="4483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5840" y="5331960"/>
              <a:ext cx="7454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ote: Arrows denote synchronization control, numbers denote stra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4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ssages exchanged between a pair of NTP peer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47800" y="2278080"/>
            <a:ext cx="7720200" cy="2684520"/>
            <a:chOff x="847800" y="2278080"/>
            <a:chExt cx="7720200" cy="2684520"/>
          </a:xfrm>
        </p:grpSpPr>
        <p:sp>
          <p:nvSpPr>
            <p:cNvPr id="142" name=""/>
            <p:cNvSpPr/>
            <p:nvPr/>
          </p:nvSpPr>
          <p:spPr>
            <a:xfrm>
              <a:off x="7251480" y="2919240"/>
              <a:ext cx="8208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11920" y="3066840"/>
              <a:ext cx="46584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7600" y="4165560"/>
              <a:ext cx="8208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19" y="0"/>
                  </a:moveTo>
                  <a:lnTo>
                    <a:pt x="37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65760" y="2859120"/>
              <a:ext cx="43956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3320" y="2919240"/>
              <a:ext cx="82080" cy="14796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18" y="93"/>
                  </a:moveTo>
                  <a:lnTo>
                    <a:pt x="0" y="75"/>
                  </a:lnTo>
                  <a:lnTo>
                    <a:pt x="56" y="0"/>
                  </a:lnTo>
                  <a:lnTo>
                    <a:pt x="37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083760" y="3066840"/>
              <a:ext cx="46620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680" y="4165560"/>
              <a:ext cx="82080" cy="149400"/>
            </a:xfrm>
            <a:custGeom>
              <a:avLst/>
              <a:gdLst/>
              <a:ahLst/>
              <a:rect l="l" t="t" r="r" b="b"/>
              <a:pathLst>
                <a:path w="56" h="94">
                  <a:moveTo>
                    <a:pt x="37" y="0"/>
                  </a:moveTo>
                  <a:lnTo>
                    <a:pt x="56" y="0"/>
                  </a:lnTo>
                  <a:lnTo>
                    <a:pt x="56" y="94"/>
                  </a:lnTo>
                  <a:lnTo>
                    <a:pt x="0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94000" y="2859120"/>
              <a:ext cx="301680" cy="13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7800" y="4373640"/>
              <a:ext cx="6797880" cy="5652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4000" y="2278080"/>
              <a:ext cx="6797520" cy="5634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43600" y="2830680"/>
              <a:ext cx="137880" cy="8856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18"/>
                  </a:moveTo>
                  <a:lnTo>
                    <a:pt x="0" y="0"/>
                  </a:lnTo>
                  <a:lnTo>
                    <a:pt x="94" y="18"/>
                  </a:lnTo>
                  <a:lnTo>
                    <a:pt x="0" y="5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4000" y="2859120"/>
              <a:ext cx="68796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43600" y="4314960"/>
              <a:ext cx="137880" cy="8892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0" y="37"/>
                  </a:moveTo>
                  <a:lnTo>
                    <a:pt x="0" y="0"/>
                  </a:lnTo>
                  <a:lnTo>
                    <a:pt x="94" y="37"/>
                  </a:lnTo>
                  <a:lnTo>
                    <a:pt x="0" y="5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64000" y="4357800"/>
              <a:ext cx="6897240" cy="15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1684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5040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422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4760" y="26258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-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6480" y="251784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60400" y="262584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13680" y="26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6560" y="46260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920" y="4734000"/>
              <a:ext cx="43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73760" y="4734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87520" y="4734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50560" y="251784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50560" y="462600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erver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880" y="27543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8720" y="34671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72640" y="3467160"/>
              <a:ext cx="24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30880" y="429912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5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ents occurring at three process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58720" y="2028960"/>
            <a:ext cx="80028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gure 11.6</a:t>
            </a:r>
            <a:br>
              <a:rPr sz="2000"/>
            </a:b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Lamport timestamps for the events shown in Figure 11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92200" y="1843200"/>
            <a:ext cx="80341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7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ctor timestamps for the events shown in Figure 11.5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8440" y="1789200"/>
            <a:ext cx="798516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gure 11.8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ecting global properties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8480" y="1482840"/>
            <a:ext cx="72532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21:59:47Z</dcterms:created>
  <dc:creator>George Coulouris</dc:creator>
  <dc:description/>
  <dc:language>en-US</dc:language>
  <cp:lastModifiedBy>George Coulouris</cp:lastModifiedBy>
  <cp:lastPrinted>2000-11-12T21:05:10Z</cp:lastPrinted>
  <dcterms:modified xsi:type="dcterms:W3CDTF">2005-05-21T09:15:47Z</dcterms:modified>
  <cp:revision>51</cp:revision>
  <dc:subject/>
  <dc:title>Figure 15.1 A distributed multimedia system</dc:title>
</cp:coreProperties>
</file>